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B13-4B34-43D4-AEBA-6AF77726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242-D534-428D-8F9E-C3D4626F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598-0ACF-41BC-B0FC-9F72885F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9E4-3D36-40C4-9B18-4E606164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EEC-20F6-4AAF-9B2A-5DDF36B1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EEC-7B1D-4A02-8743-451C7F29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924-B14E-43BC-AEBE-362D6BA8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DB1-5C5B-43D8-9BA2-051E36C1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650-62A0-4696-95B1-DAF096E4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C0C-1AA8-48ED-9FA7-CF5E0127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B06-057A-4A71-955F-95D0039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521-4D2E-4E61-BE8E-6B7BE7E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EE80-21AE-4A9E-9238-178ACC182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lace in the desert made fertile by a steady supply of wa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705720" y="35812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t1.gstatic.com/images?q=tbn:ANd9GcTBuAq0BNgcIVnhuMi6208a1Rris_MAGt6UJzB-gI1fJxpgbvLp"/>
          <p:cNvPicPr/>
          <p:nvPr/>
        </p:nvPicPr>
        <p:blipFill>
          <a:blip r:embed="rId2"/>
          <a:stretch/>
        </p:blipFill>
        <p:spPr>
          <a:xfrm>
            <a:off x="304920" y="2209680"/>
            <a:ext cx="568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1981080" y="99072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a mountain and a mountain rang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5" descr="C:\Documents and Settings\ISLPT176\Local Settings\Temporary Internet Files\Content.IE5\126TERN3\MP900442738[1].jpg"/>
          <p:cNvPicPr/>
          <p:nvPr/>
        </p:nvPicPr>
        <p:blipFill>
          <a:blip r:embed="rId2"/>
          <a:stretch/>
        </p:blipFill>
        <p:spPr>
          <a:xfrm>
            <a:off x="4114800" y="3200400"/>
            <a:ext cx="502920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C:\Documents and Settings\ISLPT176\Local Settings\Temporary Internet Files\Content.IE5\V0AM5HMX\MP900438961[1].jpg"/>
          <p:cNvPicPr/>
          <p:nvPr/>
        </p:nvPicPr>
        <p:blipFill>
          <a:blip r:embed="rId3"/>
          <a:stretch/>
        </p:blipFill>
        <p:spPr>
          <a:xfrm>
            <a:off x="0" y="320040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9"/>
          <p:cNvSpPr/>
          <p:nvPr/>
        </p:nvSpPr>
        <p:spPr>
          <a:xfrm>
            <a:off x="533520" y="23623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t. range is a lot o mountains and a mountain is only 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 mountain and a volca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olcano shoots out lava and ash while Mountain does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Documents and Settings\ISLPT176\Local Settings\Temporary Internet Files\Content.IE5\95TOO2WQ\MC900282924[1].wmf"/>
          <p:cNvPicPr/>
          <p:nvPr/>
        </p:nvPicPr>
        <p:blipFill>
          <a:blip r:embed="rId1"/>
          <a:stretch/>
        </p:blipFill>
        <p:spPr>
          <a:xfrm>
            <a:off x="0" y="2895480"/>
            <a:ext cx="4648320" cy="396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Documents and Settings\ISLPT176\Local Settings\Temporary Internet Files\Content.IE5\126TERN3\MP900447453[1].jpg"/>
          <p:cNvPicPr/>
          <p:nvPr/>
        </p:nvPicPr>
        <p:blipFill>
          <a:blip r:embed="rId2"/>
          <a:stretch/>
        </p:blipFill>
        <p:spPr>
          <a:xfrm>
            <a:off x="4648320" y="2895480"/>
            <a:ext cx="4495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6854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 butte, mesa , and platea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teau is the biggest and the butte is the smallest. Mesa is in the mid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rapezoid 4"/>
          <p:cNvSpPr/>
          <p:nvPr/>
        </p:nvSpPr>
        <p:spPr>
          <a:xfrm>
            <a:off x="0" y="2819520"/>
            <a:ext cx="3657600" cy="4038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rapezoid 5"/>
          <p:cNvSpPr/>
          <p:nvPr/>
        </p:nvSpPr>
        <p:spPr>
          <a:xfrm>
            <a:off x="3733920" y="3886200"/>
            <a:ext cx="2819160" cy="297180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rapezoid 6"/>
          <p:cNvSpPr/>
          <p:nvPr/>
        </p:nvSpPr>
        <p:spPr>
          <a:xfrm>
            <a:off x="7086600" y="4952880"/>
            <a:ext cx="2057400" cy="1905120"/>
          </a:xfrm>
          <a:prstGeom prst="pie">
            <a:avLst/>
          </a:prstGeom>
          <a:solidFill>
            <a:srgbClr val="0070c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143000" y="4038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495680" y="4952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7696080" y="5867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area of flat or nearly flat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76320" y="-565200"/>
            <a:ext cx="1542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76320" y="-565200"/>
            <a:ext cx="1542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76320" y="-565200"/>
            <a:ext cx="1542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3" descr="http://t3.gstatic.com/images?q=tbn:ANd9GcTqPmXzyarLhj8UonXS-gF8SpaHX4kru0raSAWRPWsHYi-X5CtWvw"/>
          <p:cNvPicPr/>
          <p:nvPr/>
        </p:nvPicPr>
        <p:blipFill>
          <a:blip r:embed="rId2"/>
          <a:stretch/>
        </p:blipFill>
        <p:spPr>
          <a:xfrm>
            <a:off x="685800" y="274320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7086600" y="29718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projecting part of  a coastline that extends into an ocean, sea, gulf, bay, or l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629400" y="2362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http://t2.gstatic.com/images?q=tbn:ANd9GcQepSV1JHk9IXVdSpwY-GF-N80cJWqVGHiijdIdCDhq5Tdr7Pjx2jXz8Ej7"/>
          <p:cNvPicPr/>
          <p:nvPr/>
        </p:nvPicPr>
        <p:blipFill>
          <a:blip r:embed="rId1"/>
          <a:stretch/>
        </p:blipFill>
        <p:spPr>
          <a:xfrm>
            <a:off x="609480" y="2438280"/>
            <a:ext cx="46594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lace where the river begi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05720" y="35053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http://t0.gstatic.com/images?q=tbn:ANd9GcRMJde4KSzu-HkZQoP9WEXX3fw0xUSmDIwosXmf9U04YtfGai295Yd3y6jc_A"/>
          <p:cNvPicPr/>
          <p:nvPr/>
        </p:nvPicPr>
        <p:blipFill>
          <a:blip r:embed="rId1"/>
          <a:stretch/>
        </p:blipFill>
        <p:spPr>
          <a:xfrm>
            <a:off x="1447920" y="2362320"/>
            <a:ext cx="44193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What is an opening in the earth through which lava, rock, gases, and ash are forced 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c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http://t0.gstatic.com/images?q=tbn:ANd9GcSozFZNAtyQWIX_6ho7uBprvm5SeBaXP4Ri2t98xHhPz2phnbs2yQ"/>
          <p:cNvPicPr/>
          <p:nvPr/>
        </p:nvPicPr>
        <p:blipFill>
          <a:blip r:embed="rId1"/>
          <a:stretch/>
        </p:blipFill>
        <p:spPr>
          <a:xfrm>
            <a:off x="0" y="2743200"/>
            <a:ext cx="5029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high, flat landform that rises steeply above the surrounding land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705720" y="350532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http://t1.gstatic.com/images?q=tbn:ANd9GcTUkgRq4iiyfVKF6bRyYJ2WG27MZLuLXQ2EGazg1fA9To-rL0Xr"/>
          <p:cNvPicPr/>
          <p:nvPr/>
        </p:nvPicPr>
        <p:blipFill>
          <a:blip r:embed="rId1"/>
          <a:stretch/>
        </p:blipFill>
        <p:spPr>
          <a:xfrm>
            <a:off x="0" y="2362320"/>
            <a:ext cx="5257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Flat, low-lying land built up from soil carried downstream by a river and deposited at its mou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t3.gstatic.com/images?q=tbn:ANd9GcRo49lyhOUl2_Chi77YY9QGo_3iWYXVf5wFEpeNo7Q9qu0CW8GA"/>
          <p:cNvPicPr/>
          <p:nvPr/>
        </p:nvPicPr>
        <p:blipFill>
          <a:blip r:embed="rId1"/>
          <a:stretch/>
        </p:blipFill>
        <p:spPr>
          <a:xfrm>
            <a:off x="457200" y="2362320"/>
            <a:ext cx="4952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huge sheet of ice that moves slowly across the land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http://t2.gstatic.com/images?q=tbn:ANd9GcQkNdN2wdplryzvDiFJPLIFdphq8zDnghZr_VMJ1kvXaDFFRECVUhhkbcxm"/>
          <p:cNvPicPr/>
          <p:nvPr/>
        </p:nvPicPr>
        <p:blipFill>
          <a:blip r:embed="rId2"/>
          <a:stretch/>
        </p:blipFill>
        <p:spPr>
          <a:xfrm>
            <a:off x="0" y="3657600"/>
            <a:ext cx="4419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6781680" y="3505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very dry area where few plants gro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http://t3.gstatic.com/images?q=tbn:ANd9GcSG9k4HordzCMmHHOgtQCwPBaJ3gx0T-9GHvbqRlONH3eI7OI5AvQ"/>
          <p:cNvPicPr/>
          <p:nvPr/>
        </p:nvPicPr>
        <p:blipFill>
          <a:blip r:embed="rId1"/>
          <a:stretch/>
        </p:blipFill>
        <p:spPr>
          <a:xfrm>
            <a:off x="0" y="2590920"/>
            <a:ext cx="5867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10-03T15:39:16Z</dcterms:modified>
  <cp:revision>44</cp:revision>
  <dc:subject/>
  <dc:title>PowerPoint Presentation</dc:title>
</cp:coreProperties>
</file>